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6092-F5D5-4F96-A424-FEA58DB89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82F8-CA67-446D-9384-D306F589691F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0431-12F8-436B-AAB4-EA1643170240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178D-5ACC-45D3-9867-3C1BEEE40F6C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C6C6-6E67-4DBC-92F7-88DB9A3ED919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45CB-0767-48A3-A135-1AEDF76EB084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E9FB-C8A4-4FBB-93B5-CE3DF8615C93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45B2-E583-4151-856C-38C8626B29C3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5571-17E5-4F8D-88C8-8BE8BBEA6A5D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D32E-D016-4F5E-9DD8-AE2B0F4C2682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4973-FC94-49FE-82C7-1B6061AF9D42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E7FB-1EC6-4CA1-9B80-1343C36DA7F5}" type="slidenum"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DD5A-AABC-4390-8D9D-072887A2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7C1-7668-4566-BD8C-5BA3A996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93B8-E8CC-4A26-AB11-9C66EAF9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CADC-1F21-46B4-80BE-8A0E68DF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1363-A05D-443A-B145-DB62B77CE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FE5A1-73AC-4BC7-A61F-1F6FFCD8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1B87-CD82-4B8A-BEB5-36470F73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CEECD-1C9D-45B2-A900-E79306C1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692D-6011-4B8F-A444-665F56FF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215C-771D-4221-818B-FB9439C8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5E7F-4016-42AB-A00C-7358DB68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8DC1-A1BF-4CAE-BD86-0F962A9E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92FC-231E-4CE7-9D71-7F968C0D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AEC2-B67F-46C4-B709-532FBFDD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DB79B-5DFE-4A4D-AB50-C579D589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AC45-D072-44F8-AA06-0DEED175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2FC6-991A-4FDA-B886-EA79D5B2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1C7-5188-45AA-BE43-371DD8B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EA1-68FB-448A-8BB0-179D5C4F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0DFA-B2B1-4986-B336-23862999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2CA2-6D3E-4C5D-B7B9-F0DCEB82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95A-3195-4A95-B20B-6B8C3B7B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F41C-FBDD-4E82-B854-1341354C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881A-C940-405C-B71F-EA802F34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7FC0-0A57-4474-BABA-1F1A7CC19BB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8ACE-5A2E-495F-8931-81B77BB1FBA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darter.ocps.net/classroom/revolution/revere.htm" TargetMode="External"/><Relationship Id="rId2" Type="http://schemas.openxmlformats.org/officeDocument/2006/relationships/hyperlink" Target="http://www.childlight.com/revere/html_pages/photos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Story of Paul Revere 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743200" y="533412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Chiller"/>
              </a:rPr>
              <a:t>Created by Miss Vo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Works Cited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Boston Travel Info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a7f32"/>
                </a:solidFill>
                <a:uFillTx/>
                <a:latin typeface="Times New Roman"/>
              </a:rPr>
              <a:t>paul-revere-house.boston-travel-info.com/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this website to obtain a picture of a statue of Paul Rever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he Blue Darter</a:t>
            </a:r>
            <a:r>
              <a:rPr b="0" i="1" lang="ja-JP" sz="1400" spc="-1" strike="noStrike">
                <a:solidFill>
                  <a:srgbClr val="402000"/>
                </a:solidFill>
                <a:latin typeface="Arial"/>
              </a:rPr>
              <a:t>’</a:t>
            </a: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s Guide to the American Revolution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http://darter.ocps.net/classroom/revolution/revere.htm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this website to gather facts about Paul Revere</a:t>
            </a:r>
            <a:r>
              <a:rPr b="0" lang="ja-JP" sz="1400" spc="-1" strike="noStrike">
                <a:solidFill>
                  <a:srgbClr val="402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 lif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Child Light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www.childlight.com/revere/ html_pages/photos.htm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this website to obtain a picture of the map of Paul Revere</a:t>
            </a:r>
            <a:r>
              <a:rPr b="0" lang="ja-JP" sz="1400" spc="-1" strike="noStrike">
                <a:solidFill>
                  <a:srgbClr val="402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 rid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John Singleton Copley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http://www.worcesterart.org/Collection/Early_American/Artists/copley/biography/content.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a painting of Paul Revere for my title page from this website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Works Cited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Paul Rever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402000"/>
                </a:solidFill>
                <a:uFillTx/>
                <a:latin typeface="Times New Roman"/>
              </a:rPr>
              <a:t>http://oncampus.richmond.edu/academics/as/education/projects/webunits/khistory/paul.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this website to quote an excerpt of the poem by Henry Wadsworth Longfellow.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Paul Revere Hous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402000"/>
                </a:solidFill>
                <a:uFillTx/>
                <a:latin typeface="Times New Roman"/>
              </a:rPr>
              <a:t>http://www.paulreverehouse.org/index.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used this website to research information about Paul Revere</a:t>
            </a:r>
            <a:r>
              <a:rPr b="0" lang="ja-JP" sz="1400" spc="-1" strike="noStrike">
                <a:solidFill>
                  <a:srgbClr val="402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s life and his famous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midnight ride.  I also obtained several pictures from here.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The Historic Paul Revere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402000"/>
                </a:solidFill>
                <a:uFillTx/>
                <a:latin typeface="Times New Roman"/>
              </a:rPr>
              <a:t>http://www.cvesd.k12.ca.us/finney/paulvm/h2_hist.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This website provided me with a picture of the Boston Massacre.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02000"/>
                </a:solidFill>
                <a:latin typeface="Times New Roman"/>
              </a:rPr>
              <a:t>Midnight Rider:  A Paul Revere Virtual Museum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402000"/>
                </a:solidFill>
                <a:uFillTx/>
                <a:latin typeface="Times New Roman"/>
              </a:rPr>
              <a:t>http://www.cvesd.k12.ca.us/finney/paulvm/_welcomepv.html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2000"/>
                </a:solidFill>
                <a:latin typeface="Times New Roman"/>
              </a:rPr>
              <a:t>I obtained a picture of Paul Revere at this website. 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Early Lif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876920" y="20574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entury Gothic"/>
              </a:rPr>
              <a:t>Born in Boston's North End in December, 1734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entury Gothic"/>
              </a:rPr>
              <a:t>Primary vocations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entury Gothic"/>
              </a:rPr>
              <a:t>Silver/goldsmith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entury Gothic"/>
              </a:rPr>
              <a:t>Copperplate engrav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e996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Century Gothic"/>
              </a:rPr>
              <a:t>Dentis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Picture 7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0388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Role leading to American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Friends with political activists; member of the </a:t>
            </a:r>
            <a:r>
              <a:rPr b="0" lang="ja-JP" sz="2000" spc="-1" strike="noStrike">
                <a:solidFill>
                  <a:srgbClr val="402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Sons of Liberty</a:t>
            </a:r>
            <a:r>
              <a:rPr b="0" lang="ja-JP" sz="2000" spc="-1" strike="noStrike">
                <a:solidFill>
                  <a:srgbClr val="402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Gathered intelligence information by </a:t>
            </a:r>
            <a:r>
              <a:rPr b="0" lang="ja-JP" sz="2000" spc="-1" strike="noStrike">
                <a:solidFill>
                  <a:srgbClr val="402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Watching the Movements of the British soldiers</a:t>
            </a:r>
            <a:r>
              <a:rPr b="0" lang="ja-JP" sz="2000" spc="-1" strike="noStrike">
                <a:solidFill>
                  <a:srgbClr val="402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Courier for the Boston Committee of Correspondence and the Massachusetts Committee of Safet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Role leading to American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Spread word of the Boston Tea Party to New York and Philadelphi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Participated in Boston Massacr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810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Famous Midnight R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Occurred at 10 pm on the night of April 18, 1775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Rode to Lexington, Massachusetts, to warn Samuel Adams and John Hancock that British troops were marching to arrest the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098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Famous Midnight R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A signal had to be given to indicate whether the British were coming by land or by se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2 lit lanterns indicates that the British were coming by sea; 1 lit lantern would mean by lan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One lantern was lit indicating that the British were coming by land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687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Chiller"/>
              </a:rPr>
              <a:t>After the American Revolu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Ran a small hardware stor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Opened the first copper rolling mill in North Americ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Died May 10, 1818 at the age of 83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810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6633"/>
                </a:solidFill>
                <a:latin typeface="Chiller"/>
              </a:rPr>
              <a:t>Excerp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9964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Listen my children and you shall hear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Of the midnight ride of Paul Revere,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On the eighteenth of April, in Seventy-five;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Hardly a man is now alive </a:t>
            </a:r>
            <a:br>
              <a:rPr sz="2000"/>
            </a:b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Who remembers that famous day and year.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Chiller"/>
              </a:rPr>
              <a:t>Paul Revere</a:t>
            </a:r>
            <a:r>
              <a:rPr b="0" lang="ja-JP" sz="4800" spc="-1" strike="noStrike">
                <a:solidFill>
                  <a:srgbClr val="996633"/>
                </a:solidFill>
                <a:latin typeface="Arial"/>
              </a:rPr>
              <a:t>’</a:t>
            </a:r>
            <a:r>
              <a:rPr b="0" lang="en-US" sz="4800" spc="-1" strike="noStrike">
                <a:solidFill>
                  <a:srgbClr val="996633"/>
                </a:solidFill>
                <a:latin typeface="Chiller"/>
              </a:rPr>
              <a:t>s Ride </a:t>
            </a:r>
            <a:br>
              <a:rPr sz="4800"/>
            </a:br>
            <a:r>
              <a:rPr b="0" lang="en-US" sz="2800" spc="-1" strike="noStrike">
                <a:solidFill>
                  <a:srgbClr val="996633"/>
                </a:solidFill>
                <a:latin typeface="Chiller"/>
              </a:rPr>
              <a:t>by Henry Wadsworth Longfellow, 1860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tretch/>
        </p:blipFill>
        <p:spPr>
          <a:xfrm>
            <a:off x="4952880" y="2754360"/>
            <a:ext cx="381024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6633"/>
                </a:solidFill>
                <a:latin typeface="Chiller"/>
              </a:rPr>
              <a:t>My Comprehension Question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What was Paul Revere</a:t>
            </a:r>
            <a:r>
              <a:rPr b="0" lang="ja-JP" sz="2000" spc="-1" strike="noStrike">
                <a:solidFill>
                  <a:srgbClr val="402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s role in the American Revolution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Name at least one vocation Paul Revere had before the American Revolution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Century Gothic"/>
              </a:rPr>
              <a:t>How did Paul Revere warn the colonists that the British were coming?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17334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6:14:13Z</dcterms:created>
  <dc:creator>ESD</dc:creator>
  <dc:description/>
  <dc:language>en-US</dc:language>
  <cp:lastModifiedBy>Gladys Evans</cp:lastModifiedBy>
  <dcterms:modified xsi:type="dcterms:W3CDTF">2012-09-01T04:32:34Z</dcterms:modified>
  <cp:revision>23</cp:revision>
  <dc:subject/>
  <dc:title>Paul Revere’s Ride </dc:title>
</cp:coreProperties>
</file>